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EE28-0D1B-4738-B5F9-D1ACD4FB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519-3863-4C7C-B111-DC29DEC7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FD6-72D6-4657-86FD-BF4B416E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C5F2-B3E0-46DE-831A-7A81F12A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C2B6-2672-4A7A-A38D-5C932234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D063-9416-42A1-858B-B3352A23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96C4-44FE-44BE-8E6A-7C857015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9C6-C663-45E3-9FBF-E63FA74E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A37-5A65-451A-BE9C-CD402174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CDE-254F-4E4F-A25A-4A931A5B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442-37F2-4C80-90BD-BD6D54AA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A306-8DCD-4B49-84F0-007DFF21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0646-AE89-4C5E-A58D-974541A50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0 Reč tvoja, 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eč tvoja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stály spásy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štítom pravdy odoln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viery dobrý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eč tvoja svetlom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u hviezdou náde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z bludných, hriešnych sveta cies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 k tebe doved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, Pane, z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iere stá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boji časnom uveď 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večnej radost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5T11:32:24Z</dcterms:modified>
  <cp:revision>19</cp:revision>
  <dc:subject/>
  <dc:title>Je veľký náš Pán, on slávy je Kráľ Nech do všetkých strán  spev vrúcnych znie chvál.</dc:title>
</cp:coreProperties>
</file>